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31E1-6210-4C30-AD00-34FDFDDC7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 has fallen to the Assyrians, and now we have Judah al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C9D0-0E34-46F8-B08A-CC513894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86D2-ADBB-4C2B-A493-3B88C024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21CD-E0D4-4B02-82CA-46EED84D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0740-292E-4ECD-979B-A22B5BCB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348A-0225-4644-9EBE-C8AACEAE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7AFE-B289-455F-9CF8-FE9A62AA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0769-6942-40F0-AF71-61E06FC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2030-F866-46BA-9A32-3C9F1D0C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85A-D7B5-430D-BD02-5DE9E9E1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5923-9D3D-4309-96FB-82F2F65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9529-6F40-4AFE-9C0F-E77637E3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F32D-A9C0-4760-9867-5CC978AC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43E0-E4E1-4168-A59B-A2698C6C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301A-49CE-45D3-9FEB-73B0EF8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1D04-6519-4A72-8FEC-DD2A0262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40E3-AD27-4898-8FED-39C7FF08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AA8B-CD24-423F-9A53-C8CA8918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2D2D-E8C2-4EEA-B5DA-74105F2B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CB71-CCE3-485F-B65B-F7F0EFA6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5E93-3853-4E73-B9EA-63BB6A3E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522B-F826-411D-9ECA-F61AA6EF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F303-3DF8-4E61-8E9A-CA52DF4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3E25-3D51-4839-AA72-3875932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2E4F-A241-4F35-984C-D1BAB57D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080-EEFD-4AB1-9FB3-8831E64C3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8A2-E129-4080-B194-549B130AE1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Till There Was No Remedy</a:t>
            </a:r>
            <a:br>
              <a:rPr sz="5400"/>
            </a:br>
            <a:r>
              <a:rPr b="1" i="1" lang="en-US" sz="4800" spc="-1" strike="noStrike">
                <a:solidFill>
                  <a:srgbClr val="e5e5ff"/>
                </a:solidFill>
                <a:latin typeface="Garamond"/>
              </a:rPr>
              <a:t>Divided Kingdom –Part 2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rter 7, Lesson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ges 127-13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Kings 18-19; 2 Chron. 28:27 -32:22;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a. 36-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856-983F-4420-990F-998D97A43243}" type="slidenum">
              <a:t>1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zekiah Appeals to God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8-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ain Sennacherib sent messenger to intimidate Hezekiah by boasting about his victo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 read the letter and went to the te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prayed to Go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ged for delive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wed confidence and faith in G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3BA9-F824-49B4-956C-F1504430B726}" type="slidenum">
              <a:t>10</a:t>
            </a:fld>
          </a:p>
        </p:txBody>
      </p:sp>
    </p:spTree>
  </p:cSld>
  <p:transition spd="med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od Answers Prayer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8-34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d answered Hezekiah through Isai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 charged Sennacherib with offenses against God without speaking directly to h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 caused his victories to come to pa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nacherib will not enter the city and return the way he ca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436D-97CC-4E35-87F3-5262AF8FEA0A}" type="slidenum">
              <a:t>11</a:t>
            </a:fld>
          </a:p>
        </p:txBody>
      </p:sp>
    </p:spTree>
  </p:cSld>
  <p:transition spd="med"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Outcome and Deliverance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35-37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ssyrian army took a pounding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lost 185,0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returned to Nineve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slain by his two 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ember Isaiah’s prophecy in 2 Kings 19: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God’s help, Hezekiah withstood the Assyrian inva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1C64-C5B5-4034-9B62-B591A2672F87}" type="slidenum">
              <a:t>12</a:t>
            </a:fld>
          </a:p>
        </p:txBody>
      </p:sp>
    </p:spTree>
  </p:cSld>
  <p:transition spd="med"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s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became known as the “Samaritans”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churches need to restore the original ord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did the term “Jew” come fro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the crisis many were counting on Egypt rather than God.  Is that wise or foolish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 what you can to help yourself and leave the rest in God’s hands (Hezekiah’s preparations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d is with us even if the odds appear to be against 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yer is always very powerful – Eph.3: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A4DE-3AE9-473E-A9CC-39200408C051}" type="slidenum">
              <a:t>13</a:t>
            </a:fld>
          </a:p>
        </p:txBody>
      </p:sp>
    </p:spTree>
  </p:cSld>
  <p:transition spd="med">
    <p:random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ttering of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odus from Egy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d Kingd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udah Al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04DB-07A6-41FA-8BC9-A0BF9E5241EF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516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 flipV="1">
            <a:off x="3657600" y="3276360"/>
            <a:ext cx="1295280" cy="5331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3276720"/>
            <a:ext cx="1828800" cy="2743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 rot="18322200">
            <a:off x="2468520" y="4579560"/>
            <a:ext cx="1400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Jud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 rot="18237000">
            <a:off x="2057400" y="1828440"/>
            <a:ext cx="300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ssyrian Empir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305C-D3B8-4B51-9676-7AC2D6C33A6A}" type="slidenum">
              <a:t>3</a:t>
            </a:fld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zekiah Continu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gned 29 years (go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dah was alone 6 years into his re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destroyed idolatry - 2 Kings 18: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wed dependence on the Lord – 18:5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oked by the Assyrians – 18:13-1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paganda of Sennacherib -18:19- 19: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yer of the King – 19:14-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mises of the Lord in the Crisis 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:5-7, 20-3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64F3-2CDD-4721-8CE0-8E58CF3D6C87}" type="slidenum">
              <a:t>4</a:t>
            </a:fld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paration for the Assyrian Invasion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20:20; 2 Chron. 32:1-8; Isa. 22:11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of Assyria came against Jud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opped the water flow outside the c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ilt a tunnel for the water – 2 Kings 20: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de and repaired fortif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pared the ar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couraged the people to not be afr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 paid a large tribute to Sennacheri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3FFB-CD9C-4E69-8D22-6273480637CB}" type="slidenum">
              <a:t>5</a:t>
            </a:fld>
          </a:p>
        </p:txBody>
      </p:sp>
    </p:spTree>
  </p:cSld>
  <p:transition spd="med"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685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zekiah’s tunnel --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hon Spring steps and Siloam Channel ent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1371600"/>
            <a:ext cx="175248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art of the preparations Hezekiah made to channel water into Jerusalem so the Assyrians could not easily starve them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tunnel is 1,777 ft.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5A1F-6F3A-4F19-8384-A43D61C86941}" type="slidenum">
              <a:t>6</a:t>
            </a:fld>
          </a:p>
        </p:txBody>
      </p:sp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asion of Sennacherib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8:17-25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nacherib sent officers and a large army to negotiate a surre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 sent representatives to meet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bshakeh insulted Hezekiah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rebel against us and trust in Egyp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don’t trust in God because you tore down all the high places and altars of wo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fered to help Hezekiah with 2,000 hor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 told us to take your land (false clai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58FE-BFBF-4750-B0B2-3E8964C4BCF0}" type="slidenum">
              <a:t>7</a:t>
            </a:fld>
          </a:p>
        </p:txBody>
      </p:sp>
    </p:spTree>
  </p:cSld>
  <p:transition spd="med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vasion of Sennacherib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8:26-37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zekiah’s reps wanted them to change to the Syrian language (Arama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bshakeh then talks to the people at the wal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y no attention to what Hezekiah s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render to me and live in peace; then go to Assyria to live and not d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other nation including Israel has been successful against 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Jew answered Rabshake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3913-022B-4206-87BF-2473B568C81E}" type="slidenum">
              <a:t>8</a:t>
            </a:fld>
          </a:p>
        </p:txBody>
      </p:sp>
    </p:spTree>
  </p:cSld>
  <p:transition spd="med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zekiah Goes to Isaiah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 Kings 19:1-7; 2 Chron. 32:9-22; Isa. 36-37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iakin, Shebna, and Joah reported to Hezeki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went to Isaiah for instruction and comf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ld him how God was ridicul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aiah sai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be afra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d will send a blast on him and he will lea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 will cause him to fall by the sw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bshakeh returned to Sennacherib who was at w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B287-5330-47D2-8EE6-AB225E4F391A}" type="slidenum">
              <a:t>9</a:t>
            </a:fld>
          </a:p>
        </p:txBody>
      </p:sp>
    </p:spTree>
  </p:cSld>
  <p:transition spd="med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7:36:31Z</dcterms:created>
  <dc:creator>Terry W. Benton</dc:creator>
  <dc:description/>
  <dc:language>en-US</dc:language>
  <cp:lastModifiedBy>Frank D Vines</cp:lastModifiedBy>
  <dcterms:modified xsi:type="dcterms:W3CDTF">2006-02-22T02:39:01Z</dcterms:modified>
  <cp:revision>11</cp:revision>
  <dc:subject/>
  <dc:title>Till There Was No Remedy Divided Kingdom –Part 2</dc:title>
</cp:coreProperties>
</file>